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wmf" ContentType="image/x-wmf"/>
  <Override PartName="/ppt/media/image6.wmf" ContentType="image/x-wmf"/>
  <Override PartName="/ppt/media/image7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42D9E-DE96-4C9F-9C73-F9D52921C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15876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345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B342B-186C-42CB-ADD3-D17C22B7E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15876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7760" y="2133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345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7760" y="4345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FA246-6D1D-42FE-BF3F-5D0B3153F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876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440" y="2133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0720" y="2133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345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440" y="4345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0720" y="4345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2436D-39ED-4BB3-A400-29A4FF8D5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455BA-74E4-47E5-8718-A6E8701E8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5876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685800" y="2133720"/>
            <a:ext cx="7770960" cy="42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13925-01E0-4DBE-B0BD-EEE0F1D39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5876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096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8C093-35B3-402D-941E-9606D24B5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5876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188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7760" y="2133720"/>
            <a:ext cx="379188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69FEF-9C32-4974-810A-6527AE961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5876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4CD7F-3B26-49E4-9FF1-A25E21654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685800" y="158760"/>
            <a:ext cx="77709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F90AB-CA10-49A1-998F-E0A97FA00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5876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7760" y="2133720"/>
            <a:ext cx="379188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345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AF371-B7FD-4096-882A-F657D5FE4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5876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2133720"/>
            <a:ext cx="7770960" cy="42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CE332-BA4A-4F17-9B12-93E2AE764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15876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188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7760" y="2133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67760" y="4345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75C49-9B20-464B-B13E-682F96472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15876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7760" y="2133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345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ED434-4AE7-4A68-90A6-41348192D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5876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85800" y="4345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6CB4C-FCF0-4F7C-A3FC-DC9CBE595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5876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7760" y="2133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85800" y="4345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67760" y="4345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A8B03-23E1-4DD9-A6CA-B8C5D22F8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876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313440" y="2133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940720" y="213372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685800" y="4345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313440" y="4345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5940720" y="4345200"/>
            <a:ext cx="2502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D2B47-80D1-4CE4-BC5E-76B370748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15876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096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2528E-758C-44C1-9018-3ECC9802E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5876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188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7760" y="2133720"/>
            <a:ext cx="379188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52F38-FE4D-4E4F-9C4E-6065F1C6C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15876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8DFA1-3454-44A9-AA3E-6F7152730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158760"/>
            <a:ext cx="77709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4674A-144E-4A1E-9725-715EAA3BD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15876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7760" y="2133720"/>
            <a:ext cx="379188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345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9B68F-1D62-41FF-95AE-FF60B1E47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15876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188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7760" y="2133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7760" y="434520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ED537-C372-46EB-A2F6-6DA63419F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15876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7760" y="2133720"/>
            <a:ext cx="379188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345200"/>
            <a:ext cx="777096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539BF-CA17-47CB-9D14-06C38A1F7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"/>
          <p:cNvGrpSpPr/>
          <p:nvPr/>
        </p:nvGrpSpPr>
        <p:grpSpPr>
          <a:xfrm>
            <a:off x="0" y="-1440"/>
            <a:ext cx="9142560" cy="6858000"/>
            <a:chOff x="0" y="-1440"/>
            <a:chExt cx="9142560" cy="6858000"/>
          </a:xfrm>
        </p:grpSpPr>
        <p:sp>
          <p:nvSpPr>
            <p:cNvPr id="1" name="Rectangle 2"/>
            <p:cNvSpPr/>
            <p:nvPr/>
          </p:nvSpPr>
          <p:spPr>
            <a:xfrm>
              <a:off x="0" y="1371600"/>
              <a:ext cx="9142560" cy="548496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Rectangle 3"/>
            <p:cNvSpPr/>
            <p:nvPr/>
          </p:nvSpPr>
          <p:spPr>
            <a:xfrm>
              <a:off x="0" y="6548400"/>
              <a:ext cx="9142560" cy="30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Rectangle 4"/>
            <p:cNvSpPr/>
            <p:nvPr/>
          </p:nvSpPr>
          <p:spPr>
            <a:xfrm>
              <a:off x="0" y="-1440"/>
              <a:ext cx="9142560" cy="1609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" name="Group 5"/>
            <p:cNvGrpSpPr/>
            <p:nvPr/>
          </p:nvGrpSpPr>
          <p:grpSpPr>
            <a:xfrm>
              <a:off x="0" y="1609560"/>
              <a:ext cx="9142560" cy="412920"/>
              <a:chOff x="0" y="1609560"/>
              <a:chExt cx="9142560" cy="412920"/>
            </a:xfrm>
          </p:grpSpPr>
          <p:sp>
            <p:nvSpPr>
              <p:cNvPr id="5" name="Rectangle 6"/>
              <p:cNvSpPr/>
              <p:nvPr/>
            </p:nvSpPr>
            <p:spPr>
              <a:xfrm>
                <a:off x="0" y="1609560"/>
                <a:ext cx="9142560" cy="101880"/>
              </a:xfrm>
              <a:prstGeom prst="rect">
                <a:avLst/>
              </a:pr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Rectangle 7"/>
              <p:cNvSpPr/>
              <p:nvPr/>
            </p:nvSpPr>
            <p:spPr>
              <a:xfrm>
                <a:off x="0" y="1712880"/>
                <a:ext cx="9142560" cy="101520"/>
              </a:xfrm>
              <a:prstGeom prst="rect">
                <a:avLst/>
              </a:prstGeom>
              <a:solidFill>
                <a:srgbClr val="a50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Rectangle 8"/>
              <p:cNvSpPr/>
              <p:nvPr/>
            </p:nvSpPr>
            <p:spPr>
              <a:xfrm>
                <a:off x="0" y="1816200"/>
                <a:ext cx="9142560" cy="10152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Rectangle 9"/>
              <p:cNvSpPr/>
              <p:nvPr/>
            </p:nvSpPr>
            <p:spPr>
              <a:xfrm>
                <a:off x="0" y="1920960"/>
                <a:ext cx="9142560" cy="101520"/>
              </a:xfrm>
              <a:prstGeom prst="rect">
                <a:avLst/>
              </a:prstGeom>
              <a:solidFill>
                <a:srgbClr val="99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5876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2133720"/>
            <a:ext cx="777096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440" y="6397200"/>
            <a:ext cx="19033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3720" y="6397200"/>
            <a:ext cx="289404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397200"/>
            <a:ext cx="190368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1240B1B-9D04-4688-BCBA-CD0BB7B92C4B}" type="slidenum">
              <a:rPr b="0" lang="fr-FR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1"/>
          <p:cNvGrpSpPr/>
          <p:nvPr/>
        </p:nvGrpSpPr>
        <p:grpSpPr>
          <a:xfrm>
            <a:off x="0" y="-1440"/>
            <a:ext cx="9142560" cy="6858000"/>
            <a:chOff x="0" y="-1440"/>
            <a:chExt cx="9142560" cy="6858000"/>
          </a:xfrm>
        </p:grpSpPr>
        <p:sp>
          <p:nvSpPr>
            <p:cNvPr id="51" name="Rectangle 2"/>
            <p:cNvSpPr/>
            <p:nvPr/>
          </p:nvSpPr>
          <p:spPr>
            <a:xfrm>
              <a:off x="0" y="2895480"/>
              <a:ext cx="9142560" cy="396108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Rectangle 3"/>
            <p:cNvSpPr/>
            <p:nvPr/>
          </p:nvSpPr>
          <p:spPr>
            <a:xfrm>
              <a:off x="0" y="6548400"/>
              <a:ext cx="9142560" cy="308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0" y="-1440"/>
              <a:ext cx="9142560" cy="3200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3200400"/>
              <a:ext cx="9142560" cy="412920"/>
              <a:chOff x="0" y="3200400"/>
              <a:chExt cx="9142560" cy="41292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0" y="3200400"/>
                <a:ext cx="9142560" cy="101520"/>
              </a:xfrm>
              <a:prstGeom prst="rect">
                <a:avLst/>
              </a:pr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0" y="3303720"/>
                <a:ext cx="9142560" cy="101520"/>
              </a:xfrm>
              <a:prstGeom prst="rect">
                <a:avLst/>
              </a:prstGeom>
              <a:solidFill>
                <a:srgbClr val="a500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0" y="3406680"/>
                <a:ext cx="9142560" cy="10152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0" y="3511440"/>
                <a:ext cx="9142560" cy="101880"/>
              </a:xfrm>
              <a:prstGeom prst="rect">
                <a:avLst/>
              </a:prstGeom>
              <a:solidFill>
                <a:srgbClr val="99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0960" cy="17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440" y="6400800"/>
            <a:ext cx="1903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3720" y="6400800"/>
            <a:ext cx="289404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400800"/>
            <a:ext cx="19036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fr-FR" sz="1400" spc="-1" strike="noStrike">
                <a:solidFill>
                  <a:srgbClr val="ffffff"/>
                </a:solidFill>
                <a:latin typeface="Arial Black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E2E72F89-F3E5-4184-98E5-3EB88A07DF1D}" type="slidenum">
              <a:rPr b="0" lang="fr-FR" sz="1400" spc="-1" strike="noStrike">
                <a:solidFill>
                  <a:srgbClr val="ffffff"/>
                </a:solidFill>
                <a:latin typeface="Arial Black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7240" y="178920"/>
            <a:ext cx="777240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Arial Black"/>
              </a:rPr>
              <a:t>Le dessin Techniqu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3792600" cy="42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 Black"/>
              </a:rPr>
              <a:t>Utilité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2700360" y="3240000"/>
            <a:ext cx="5918040" cy="2171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58760"/>
            <a:ext cx="777240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Arial Black"/>
              </a:rPr>
              <a:t>Le dessin Techniqu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3792600" cy="42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 Black"/>
              </a:rPr>
              <a:t>Différents dessins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4" name="Picture 3" descr=""/>
          <p:cNvPicPr/>
          <p:nvPr/>
        </p:nvPicPr>
        <p:blipFill>
          <a:blip r:embed="rId1"/>
          <a:stretch/>
        </p:blipFill>
        <p:spPr>
          <a:xfrm>
            <a:off x="3959280" y="2228760"/>
            <a:ext cx="1620720" cy="17305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4" descr=""/>
          <p:cNvPicPr/>
          <p:nvPr/>
        </p:nvPicPr>
        <p:blipFill>
          <a:blip r:embed="rId2"/>
          <a:stretch/>
        </p:blipFill>
        <p:spPr>
          <a:xfrm>
            <a:off x="3654360" y="4140360"/>
            <a:ext cx="3060720" cy="21700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"/>
          <p:cNvPicPr/>
          <p:nvPr/>
        </p:nvPicPr>
        <p:blipFill>
          <a:blip r:embed="rId3"/>
          <a:stretch/>
        </p:blipFill>
        <p:spPr>
          <a:xfrm>
            <a:off x="6392880" y="3076560"/>
            <a:ext cx="2427120" cy="19620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3" descr=""/>
          <p:cNvPicPr/>
          <p:nvPr/>
        </p:nvPicPr>
        <p:blipFill>
          <a:blip r:embed="rId4"/>
          <a:srcRect l="3311" t="0" r="61156" b="6873"/>
          <a:stretch/>
        </p:blipFill>
        <p:spPr>
          <a:xfrm>
            <a:off x="1476360" y="3903840"/>
            <a:ext cx="1565280" cy="2269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Arial Black"/>
              </a:rPr>
              <a:t>Le dessin Techniqu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2057040"/>
            <a:ext cx="4114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 Black"/>
              </a:rPr>
              <a:t>Format de papier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0" name="Picture 3" descr=""/>
          <p:cNvPicPr/>
          <p:nvPr/>
        </p:nvPicPr>
        <p:blipFill>
          <a:blip r:embed="rId1"/>
          <a:srcRect l="-320" t="-5435" r="-360" b="-461"/>
          <a:stretch/>
        </p:blipFill>
        <p:spPr>
          <a:xfrm>
            <a:off x="4343400" y="2057400"/>
            <a:ext cx="4419720" cy="4419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5680" y="2514240"/>
            <a:ext cx="4415040" cy="421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Dans le monde il existe différents organismes de NORME. Les nationales et les internationales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omic Sans MS"/>
              </a:rPr>
              <a:t>NF</a:t>
            </a: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 : pour la France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omic Sans MS"/>
              </a:rPr>
              <a:t>ISO</a:t>
            </a: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 : Internationale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omic Sans MS"/>
              </a:rPr>
              <a:t>EN</a:t>
            </a: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 : Europe (reprise en norme NF)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omic Sans MS"/>
              </a:rPr>
              <a:t>DIN</a:t>
            </a: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 : pour l’Allemagne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BS : Grande Bretagne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ANSI : Etats Unis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JIS : Japon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En France les normes doivent être NF, voir EN, mais la norme ISO n’est pas obligatoire. Mais la norme française intègre souvent les normes EN et parfois l’ISO.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omic Sans MS"/>
              </a:rPr>
              <a:t>Les Normes NF sont remisent à jour tous les 3ans, alors les normes ISO ne sont revues que tous les 5 ans.</a:t>
            </a: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title"/>
          </p:nvPr>
        </p:nvSpPr>
        <p:spPr>
          <a:xfrm>
            <a:off x="75564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Arial Black"/>
              </a:rPr>
              <a:t>Le dessin Techniqu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3" name="Rectangle 1"/>
          <p:cNvSpPr/>
          <p:nvPr/>
        </p:nvSpPr>
        <p:spPr>
          <a:xfrm>
            <a:off x="0" y="1981080"/>
            <a:ext cx="3132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Monotype Sort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 Black"/>
              </a:rPr>
              <a:t>Les Nor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Picture 14" descr="flo"/>
          <p:cNvPicPr/>
          <p:nvPr/>
        </p:nvPicPr>
        <p:blipFill>
          <a:blip r:embed="rId1"/>
          <a:stretch/>
        </p:blipFill>
        <p:spPr>
          <a:xfrm>
            <a:off x="5076720" y="1981080"/>
            <a:ext cx="3456000" cy="467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696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0" y="1981080"/>
            <a:ext cx="2819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 Black"/>
              </a:rPr>
              <a:t>Cartouch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Arial Black"/>
              </a:rPr>
              <a:t>Le dessin Techniqu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pic>
        <p:nvPicPr>
          <p:cNvPr id="117" name="Picture 3" descr=""/>
          <p:cNvPicPr/>
          <p:nvPr/>
        </p:nvPicPr>
        <p:blipFill>
          <a:blip r:embed="rId1"/>
          <a:stretch/>
        </p:blipFill>
        <p:spPr>
          <a:xfrm>
            <a:off x="0" y="3286080"/>
            <a:ext cx="4495680" cy="21369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4" descr=""/>
          <p:cNvPicPr/>
          <p:nvPr/>
        </p:nvPicPr>
        <p:blipFill>
          <a:blip r:embed="rId2"/>
          <a:srcRect l="5084" t="37242" r="3043" b="24058"/>
          <a:stretch/>
        </p:blipFill>
        <p:spPr>
          <a:xfrm>
            <a:off x="4716360" y="3929040"/>
            <a:ext cx="4308480" cy="96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7T08:06:54Z</dcterms:created>
  <dc:creator>jost</dc:creator>
  <dc:description/>
  <dc:language>en-US</dc:language>
  <cp:lastModifiedBy>papa</cp:lastModifiedBy>
  <dcterms:modified xsi:type="dcterms:W3CDTF">2013-07-10T15:52:57Z</dcterms:modified>
  <cp:revision>17</cp:revision>
  <dc:subject/>
  <dc:title>CORRECTION DU TP4</dc:title>
</cp:coreProperties>
</file>