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7.wmf" ContentType="image/x-wmf"/>
  <Override PartName="/ppt/media/image12.png" ContentType="image/png"/>
  <Override PartName="/ppt/media/image20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17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8D15-0514-417E-8EA1-A98A17B70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587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345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713C-0F56-43F5-B5C1-0BFA8048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587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7760" y="2133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345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7760" y="4345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ED71-B909-4D20-AA05-07A4C64B1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87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440" y="2133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0720" y="2133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345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440" y="4345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0720" y="4345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1311-58ED-428D-83C6-52003F59C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7EB6B-1B8D-4375-AC75-91F77E719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87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0960" cy="42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5DCED-9284-49DC-A80D-B3C6E65DD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87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096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728C5-7DFC-47E3-8979-7747224A1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87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18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7760" y="2133720"/>
            <a:ext cx="37918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A323E-0494-470B-BEC3-D0F9C8B89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87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C3ED5-0544-48E3-8CCA-998B2C7B6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15876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9ADDF-EFFB-4CD9-B6F0-288CE7A1E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87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7760" y="2133720"/>
            <a:ext cx="37918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345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7702F-39ED-4AD9-845C-E03B9CC4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87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0960" cy="42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3569-8E8E-4C01-A0E6-E1439C9A9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87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18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7760" y="2133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7760" y="4345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5044A-6D9F-4B64-9CED-C5D5FF76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587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7760" y="2133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345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15ADC-F3B9-4BB5-AE26-C8E86E01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587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345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270EB-D0E0-4C54-B91F-77F56592A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87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7760" y="2133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345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7760" y="4345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9E410-C530-4120-AE1A-8AA2CDFB5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87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440" y="2133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0720" y="2133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345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440" y="4345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0720" y="4345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31D11-2E62-46DE-8980-7393598B5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87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096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22F8-83DB-44BE-95F9-8BD1142F4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87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18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2133720"/>
            <a:ext cx="37918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C24D-6CF8-4B40-AEA5-857BF05A3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587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AD86-A248-4509-A956-91CA3F89E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15876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1B11-34B6-4BEC-BC10-11723CD3A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587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7760" y="2133720"/>
            <a:ext cx="37918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45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3ECF-D420-494C-B3F1-94858ABC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587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18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7760" y="2133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7760" y="4345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A4C3-3A20-4267-B0FC-3078E82A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587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7760" y="2133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345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8228-A5EF-46AF-BCF0-6186669E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-1440"/>
            <a:ext cx="9142560" cy="6858000"/>
            <a:chOff x="0" y="-1440"/>
            <a:chExt cx="9142560" cy="6858000"/>
          </a:xfrm>
        </p:grpSpPr>
        <p:sp>
          <p:nvSpPr>
            <p:cNvPr id="1" name="Rectangle 2"/>
            <p:cNvSpPr/>
            <p:nvPr/>
          </p:nvSpPr>
          <p:spPr>
            <a:xfrm>
              <a:off x="0" y="1371600"/>
              <a:ext cx="9142560" cy="54849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0" y="6548400"/>
              <a:ext cx="9142560" cy="30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Rectangle 4"/>
            <p:cNvSpPr/>
            <p:nvPr/>
          </p:nvSpPr>
          <p:spPr>
            <a:xfrm>
              <a:off x="0" y="-1440"/>
              <a:ext cx="9142560" cy="1609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Group 5"/>
            <p:cNvGrpSpPr/>
            <p:nvPr/>
          </p:nvGrpSpPr>
          <p:grpSpPr>
            <a:xfrm>
              <a:off x="0" y="1609560"/>
              <a:ext cx="9142560" cy="412920"/>
              <a:chOff x="0" y="1609560"/>
              <a:chExt cx="9142560" cy="412920"/>
            </a:xfrm>
          </p:grpSpPr>
          <p:sp>
            <p:nvSpPr>
              <p:cNvPr id="5" name="Rectangle 6"/>
              <p:cNvSpPr/>
              <p:nvPr/>
            </p:nvSpPr>
            <p:spPr>
              <a:xfrm>
                <a:off x="0" y="1609560"/>
                <a:ext cx="9142560" cy="1018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7"/>
              <p:cNvSpPr/>
              <p:nvPr/>
            </p:nvSpPr>
            <p:spPr>
              <a:xfrm>
                <a:off x="0" y="1712880"/>
                <a:ext cx="9142560" cy="1015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8"/>
              <p:cNvSpPr/>
              <p:nvPr/>
            </p:nvSpPr>
            <p:spPr>
              <a:xfrm>
                <a:off x="0" y="1816200"/>
                <a:ext cx="9142560" cy="101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9"/>
              <p:cNvSpPr/>
              <p:nvPr/>
            </p:nvSpPr>
            <p:spPr>
              <a:xfrm>
                <a:off x="0" y="1920960"/>
                <a:ext cx="9142560" cy="1015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87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096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440" y="6397200"/>
            <a:ext cx="19033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3720" y="6397200"/>
            <a:ext cx="2894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397200"/>
            <a:ext cx="19036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975512C-9483-4967-A737-5A1E926CC224}" type="slidenum">
              <a:rPr b="0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"/>
          <p:cNvGrpSpPr/>
          <p:nvPr/>
        </p:nvGrpSpPr>
        <p:grpSpPr>
          <a:xfrm>
            <a:off x="0" y="-1440"/>
            <a:ext cx="9142560" cy="6858000"/>
            <a:chOff x="0" y="-1440"/>
            <a:chExt cx="9142560" cy="6858000"/>
          </a:xfrm>
        </p:grpSpPr>
        <p:sp>
          <p:nvSpPr>
            <p:cNvPr id="51" name="Rectangle 2"/>
            <p:cNvSpPr/>
            <p:nvPr/>
          </p:nvSpPr>
          <p:spPr>
            <a:xfrm>
              <a:off x="0" y="2895480"/>
              <a:ext cx="9142560" cy="3961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Rectangle 3"/>
            <p:cNvSpPr/>
            <p:nvPr/>
          </p:nvSpPr>
          <p:spPr>
            <a:xfrm>
              <a:off x="0" y="6548400"/>
              <a:ext cx="9142560" cy="30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0" y="-1440"/>
              <a:ext cx="9142560" cy="3200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3200400"/>
              <a:ext cx="9142560" cy="412920"/>
              <a:chOff x="0" y="3200400"/>
              <a:chExt cx="9142560" cy="41292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0" y="3200400"/>
                <a:ext cx="9142560" cy="10152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0" y="3303720"/>
                <a:ext cx="9142560" cy="1015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0" y="3406680"/>
                <a:ext cx="9142560" cy="101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0" y="3511440"/>
                <a:ext cx="9142560" cy="10188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0960" cy="17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440" y="64008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3720" y="640080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400" spc="-1" strike="noStrike">
                <a:solidFill>
                  <a:srgbClr val="ffffff"/>
                </a:solidFill>
                <a:latin typeface="Arial Blac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D7E2682-360A-41AB-9835-FD82837F3B2A}" type="slidenum">
              <a:rPr b="0" lang="fr-FR" sz="1400" spc="-1" strike="noStrike">
                <a:solidFill>
                  <a:srgbClr val="ffffff"/>
                </a:solidFill>
                <a:latin typeface="Arial Blac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876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Black"/>
              </a:rPr>
              <a:t>Projection Orthogonal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37926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Black"/>
              </a:rPr>
              <a:t>Différents dessin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3959280" y="2228760"/>
            <a:ext cx="1620720" cy="1730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2"/>
          <a:stretch/>
        </p:blipFill>
        <p:spPr>
          <a:xfrm>
            <a:off x="3654360" y="4140360"/>
            <a:ext cx="3060720" cy="2170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3"/>
          <a:stretch/>
        </p:blipFill>
        <p:spPr>
          <a:xfrm>
            <a:off x="6392880" y="3076560"/>
            <a:ext cx="2427120" cy="1962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4"/>
          <a:srcRect l="3311" t="0" r="61156" b="6873"/>
          <a:stretch/>
        </p:blipFill>
        <p:spPr>
          <a:xfrm>
            <a:off x="1476360" y="3903840"/>
            <a:ext cx="1565280" cy="226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Black"/>
              </a:rPr>
              <a:t>Le dessin Techniqu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000" y="2060280"/>
            <a:ext cx="8450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Black"/>
              </a:rPr>
              <a:t>Décomposition en volumes élémentair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2" name="Image 6" descr=""/>
          <p:cNvPicPr/>
          <p:nvPr/>
        </p:nvPicPr>
        <p:blipFill>
          <a:blip r:embed="rId1"/>
          <a:stretch/>
        </p:blipFill>
        <p:spPr>
          <a:xfrm>
            <a:off x="468360" y="2781360"/>
            <a:ext cx="2073240" cy="3213000"/>
          </a:xfrm>
          <a:prstGeom prst="rect">
            <a:avLst/>
          </a:prstGeom>
          <a:ln w="0">
            <a:noFill/>
          </a:ln>
        </p:spPr>
      </p:pic>
      <p:pic>
        <p:nvPicPr>
          <p:cNvPr id="133" name="Image 7" descr=""/>
          <p:cNvPicPr/>
          <p:nvPr/>
        </p:nvPicPr>
        <p:blipFill>
          <a:blip r:embed="rId2"/>
          <a:stretch/>
        </p:blipFill>
        <p:spPr>
          <a:xfrm>
            <a:off x="3132000" y="2924280"/>
            <a:ext cx="2130480" cy="2925720"/>
          </a:xfrm>
          <a:prstGeom prst="rect">
            <a:avLst/>
          </a:prstGeom>
          <a:ln w="0">
            <a:noFill/>
          </a:ln>
        </p:spPr>
      </p:pic>
      <p:pic>
        <p:nvPicPr>
          <p:cNvPr id="134" name="Image 8" descr=""/>
          <p:cNvPicPr/>
          <p:nvPr/>
        </p:nvPicPr>
        <p:blipFill>
          <a:blip r:embed="rId3"/>
          <a:stretch/>
        </p:blipFill>
        <p:spPr>
          <a:xfrm>
            <a:off x="5438880" y="2924280"/>
            <a:ext cx="37144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Black"/>
              </a:rPr>
              <a:t>Le dessin Techniqu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000" y="2060280"/>
            <a:ext cx="8450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Black"/>
              </a:rPr>
              <a:t>Réalisation en volumes élémentair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Image 2" descr=""/>
          <p:cNvPicPr/>
          <p:nvPr/>
        </p:nvPicPr>
        <p:blipFill>
          <a:blip r:embed="rId1"/>
          <a:stretch/>
        </p:blipFill>
        <p:spPr>
          <a:xfrm>
            <a:off x="2211480" y="2546280"/>
            <a:ext cx="4640040" cy="386244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"/>
          <p:cNvPicPr/>
          <p:nvPr/>
        </p:nvPicPr>
        <p:blipFill>
          <a:blip r:embed="rId2"/>
          <a:stretch/>
        </p:blipFill>
        <p:spPr>
          <a:xfrm>
            <a:off x="2206800" y="2522520"/>
            <a:ext cx="4541760" cy="3886200"/>
          </a:xfrm>
          <a:prstGeom prst="rect">
            <a:avLst/>
          </a:prstGeom>
          <a:ln w="0">
            <a:noFill/>
          </a:ln>
        </p:spPr>
      </p:pic>
      <p:pic>
        <p:nvPicPr>
          <p:cNvPr id="139" name="Image 4" descr=""/>
          <p:cNvPicPr/>
          <p:nvPr/>
        </p:nvPicPr>
        <p:blipFill>
          <a:blip r:embed="rId3"/>
          <a:stretch/>
        </p:blipFill>
        <p:spPr>
          <a:xfrm>
            <a:off x="2243160" y="2522520"/>
            <a:ext cx="4713120" cy="3886200"/>
          </a:xfrm>
          <a:prstGeom prst="rect">
            <a:avLst/>
          </a:prstGeom>
          <a:ln w="0">
            <a:noFill/>
          </a:ln>
        </p:spPr>
      </p:pic>
      <p:pic>
        <p:nvPicPr>
          <p:cNvPr id="140" name="Image 5" descr=""/>
          <p:cNvPicPr/>
          <p:nvPr/>
        </p:nvPicPr>
        <p:blipFill>
          <a:blip r:embed="rId4"/>
          <a:stretch/>
        </p:blipFill>
        <p:spPr>
          <a:xfrm>
            <a:off x="2259000" y="2522520"/>
            <a:ext cx="4664160" cy="38862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6" descr=""/>
          <p:cNvPicPr/>
          <p:nvPr/>
        </p:nvPicPr>
        <p:blipFill>
          <a:blip r:embed="rId5"/>
          <a:stretch/>
        </p:blipFill>
        <p:spPr>
          <a:xfrm>
            <a:off x="2224080" y="2522520"/>
            <a:ext cx="4640400" cy="3886200"/>
          </a:xfrm>
          <a:prstGeom prst="rect">
            <a:avLst/>
          </a:prstGeom>
          <a:ln w="0">
            <a:noFill/>
          </a:ln>
        </p:spPr>
      </p:pic>
      <p:pic>
        <p:nvPicPr>
          <p:cNvPr id="142" name="Image 7" descr=""/>
          <p:cNvPicPr/>
          <p:nvPr/>
        </p:nvPicPr>
        <p:blipFill>
          <a:blip r:embed="rId6"/>
          <a:stretch/>
        </p:blipFill>
        <p:spPr>
          <a:xfrm>
            <a:off x="2193840" y="2522520"/>
            <a:ext cx="4700520" cy="3886200"/>
          </a:xfrm>
          <a:prstGeom prst="rect">
            <a:avLst/>
          </a:prstGeom>
          <a:ln w="0">
            <a:noFill/>
          </a:ln>
        </p:spPr>
      </p:pic>
      <p:pic>
        <p:nvPicPr>
          <p:cNvPr id="143" name="Image 8" descr=""/>
          <p:cNvPicPr/>
          <p:nvPr/>
        </p:nvPicPr>
        <p:blipFill>
          <a:blip r:embed="rId7"/>
          <a:stretch/>
        </p:blipFill>
        <p:spPr>
          <a:xfrm>
            <a:off x="2131920" y="2522520"/>
            <a:ext cx="471960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51920" y="21333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Black"/>
              </a:rPr>
              <a:t>Projection orthogonale Européenn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rcRect l="-1511" t="-6894" r="2673" b="5554"/>
          <a:stretch/>
        </p:blipFill>
        <p:spPr>
          <a:xfrm>
            <a:off x="228600" y="2743200"/>
            <a:ext cx="3530520" cy="3733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2"/>
          <a:srcRect l="824" t="3970" r="806" b="3970"/>
          <a:stretch/>
        </p:blipFill>
        <p:spPr>
          <a:xfrm>
            <a:off x="4191120" y="2666880"/>
            <a:ext cx="4952880" cy="36831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"/>
          <p:cNvSpPr/>
          <p:nvPr/>
        </p:nvSpPr>
        <p:spPr>
          <a:xfrm>
            <a:off x="685800" y="158760"/>
            <a:ext cx="77724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Black"/>
              </a:rPr>
              <a:t>Projection Orthogona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2057400"/>
            <a:ext cx="60199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Black"/>
              </a:rPr>
              <a:t>Représentation orthogonal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rcRect l="3311" t="0" r="61156" b="6873"/>
          <a:stretch/>
        </p:blipFill>
        <p:spPr>
          <a:xfrm>
            <a:off x="6012000" y="2209680"/>
            <a:ext cx="2952720" cy="428148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1"/>
          <p:cNvSpPr/>
          <p:nvPr/>
        </p:nvSpPr>
        <p:spPr>
          <a:xfrm>
            <a:off x="685800" y="158760"/>
            <a:ext cx="77724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Black"/>
              </a:rPr>
              <a:t>Projection Orthogona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52280" y="2057040"/>
            <a:ext cx="3810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Black"/>
              </a:rPr>
              <a:t>Alignement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rcRect l="28483" t="-5307" r="30317" b="5802"/>
          <a:stretch/>
        </p:blipFill>
        <p:spPr>
          <a:xfrm>
            <a:off x="6227640" y="2057400"/>
            <a:ext cx="2737080" cy="44197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"/>
          <p:cNvSpPr/>
          <p:nvPr/>
        </p:nvSpPr>
        <p:spPr>
          <a:xfrm>
            <a:off x="685800" y="158760"/>
            <a:ext cx="77724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Black"/>
              </a:rPr>
              <a:t>Projection Orthogona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-360" y="205704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Black"/>
              </a:rPr>
              <a:t>Formes géométriques simpl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0" y="3276720"/>
            <a:ext cx="9829800" cy="238896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1"/>
          <p:cNvSpPr/>
          <p:nvPr/>
        </p:nvSpPr>
        <p:spPr>
          <a:xfrm>
            <a:off x="685800" y="158760"/>
            <a:ext cx="77724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Black"/>
              </a:rPr>
              <a:t>Projection Orthogona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-360" y="205704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Black"/>
              </a:rPr>
              <a:t>Formes géométriques simpl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0" y="2819520"/>
            <a:ext cx="9448920" cy="30765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685800" y="15876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Black"/>
              </a:rPr>
              <a:t>Projection Orthogonal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" descr=""/>
          <p:cNvPicPr/>
          <p:nvPr/>
        </p:nvPicPr>
        <p:blipFill>
          <a:blip r:embed="rId1"/>
          <a:stretch/>
        </p:blipFill>
        <p:spPr>
          <a:xfrm>
            <a:off x="0" y="3124080"/>
            <a:ext cx="9144000" cy="28371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-360" y="205704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Black"/>
              </a:rPr>
              <a:t>Formes géométriques simpl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Rectangle 1"/>
          <p:cNvSpPr/>
          <p:nvPr/>
        </p:nvSpPr>
        <p:spPr>
          <a:xfrm>
            <a:off x="685800" y="158760"/>
            <a:ext cx="77724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Black"/>
              </a:rPr>
              <a:t>Projection Orthogona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" descr=""/>
          <p:cNvPicPr/>
          <p:nvPr/>
        </p:nvPicPr>
        <p:blipFill>
          <a:blip r:embed="rId1"/>
          <a:stretch/>
        </p:blipFill>
        <p:spPr>
          <a:xfrm>
            <a:off x="0" y="3124080"/>
            <a:ext cx="9829800" cy="221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Black"/>
              </a:rPr>
              <a:t>Le dessin Techniqu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205704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Black"/>
              </a:rPr>
              <a:t>Formes géométriques simpl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" descr=""/>
          <p:cNvPicPr/>
          <p:nvPr/>
        </p:nvPicPr>
        <p:blipFill>
          <a:blip r:embed="rId1"/>
          <a:stretch/>
        </p:blipFill>
        <p:spPr>
          <a:xfrm>
            <a:off x="-304920" y="3124080"/>
            <a:ext cx="9829800" cy="32004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Black"/>
              </a:rPr>
              <a:t>Le dessin Techniqu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-360" y="205704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Black"/>
              </a:rPr>
              <a:t>Formes géométriques simpl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7T08:06:54Z</dcterms:created>
  <dc:creator>jost</dc:creator>
  <dc:description/>
  <dc:language>en-US</dc:language>
  <cp:lastModifiedBy>papa</cp:lastModifiedBy>
  <dcterms:modified xsi:type="dcterms:W3CDTF">2013-07-24T16:17:54Z</dcterms:modified>
  <cp:revision>18</cp:revision>
  <dc:subject/>
  <dc:title>CORRECTION DU TP4</dc:title>
</cp:coreProperties>
</file>