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606-A150-4353-9975-8E4B2E5D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41C-07C7-485D-A26D-DAA3748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D66-04AE-4BD9-A6BC-B8758EAB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721-394C-4687-B19B-D2F1C4C0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7F8C-C5F2-4FBA-BC1F-FB237203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31E9-4C04-425B-BD4A-C0C8C2D3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5314-FEDC-4688-A445-492EA49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5C87-0354-4E74-8DAA-EC2CFF2B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641-E8D9-4A44-89E0-7F8093E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D089-123A-4615-8633-A3F23C8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F993-A375-4BEB-9990-B43E6C8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26A-A56B-46C5-9F64-1F4F9745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89A0-2BCF-4238-83DF-192F8BB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CC7E-4E71-4775-9B8A-A791951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836-D586-43F7-AB22-50D3640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E5D1-1244-4061-883A-188F1251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5F5A-60DF-4A8A-9B98-D3BCCA3C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DDF-5236-414A-A11F-DFD9642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ADC-7778-41AA-878B-3F7A8AA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637-313D-4FD1-A883-48766717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C2E-A357-4EB2-AB93-92F35A8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852-8E3E-470A-BE7E-0B50DAA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4BD-6E33-4427-838F-9149E66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5A3-5CE6-43E7-9295-B8A4EFB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1027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1029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34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A80-46E8-4D19-8D4E-57407DC07ECF}" type="slidenum">
              <a:rPr b="0" lang="fr-FR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20C2-B9BF-465B-8C55-7A3F6B3DBFA8}" type="slidenum">
              <a:rPr b="0" lang="fr-FR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" Target="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70"/>
          <p:cNvGrpSpPr/>
          <p:nvPr/>
        </p:nvGrpSpPr>
        <p:grpSpPr>
          <a:xfrm>
            <a:off x="538200" y="0"/>
            <a:ext cx="8605800" cy="6616800"/>
            <a:chOff x="538200" y="0"/>
            <a:chExt cx="8605800" cy="6616800"/>
          </a:xfrm>
        </p:grpSpPr>
        <p:sp>
          <p:nvSpPr>
            <p:cNvPr id="102" name="Rectangle 3"/>
            <p:cNvSpPr/>
            <p:nvPr/>
          </p:nvSpPr>
          <p:spPr>
            <a:xfrm>
              <a:off x="1371600" y="360360"/>
              <a:ext cx="7574040" cy="625644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3440160" y="1536840"/>
              <a:ext cx="1106280" cy="78876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5535720" y="2865600"/>
              <a:ext cx="1106280" cy="79056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7542360" y="4059360"/>
              <a:ext cx="1104840" cy="78876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06" name="AutoShape 7"/>
            <p:cNvCxnSpPr>
              <a:stCxn id="103" idx="3"/>
              <a:endCxn id="104" idx="1"/>
            </p:cNvCxnSpPr>
            <p:nvPr/>
          </p:nvCxnSpPr>
          <p:spPr>
            <a:xfrm>
              <a:off x="4546440" y="1931040"/>
              <a:ext cx="989640" cy="1330200"/>
            </a:xfrm>
            <a:prstGeom prst="bentConnector3">
              <a:avLst>
                <a:gd name="adj1" fmla="val 49963"/>
              </a:avLst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07" name="AutoShape 8"/>
            <p:cNvCxnSpPr>
              <a:stCxn id="104" idx="3"/>
              <a:endCxn id="105" idx="1"/>
            </p:cNvCxnSpPr>
            <p:nvPr/>
          </p:nvCxnSpPr>
          <p:spPr>
            <a:xfrm>
              <a:off x="6642000" y="3260880"/>
              <a:ext cx="900720" cy="1193040"/>
            </a:xfrm>
            <a:prstGeom prst="bentConnector3">
              <a:avLst>
                <a:gd name="adj1" fmla="val 49980"/>
              </a:avLst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08" name="Line 9"/>
            <p:cNvSpPr/>
            <p:nvPr/>
          </p:nvSpPr>
          <p:spPr>
            <a:xfrm>
              <a:off x="6499080" y="2470320"/>
              <a:ext cx="0" cy="395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8110440" y="3664080"/>
              <a:ext cx="0" cy="395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3111480" y="628200"/>
              <a:ext cx="11444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E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3431880" y="2342880"/>
              <a:ext cx="11757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réactionneu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3503520" y="2608200"/>
              <a:ext cx="11048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V="1">
              <a:off x="3503520" y="2397240"/>
              <a:ext cx="0" cy="2109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5491080" y="3938760"/>
              <a:ext cx="11048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 flipV="1">
              <a:off x="5491080" y="3725640"/>
              <a:ext cx="0" cy="2127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>
              <a:off x="7693200" y="5059440"/>
              <a:ext cx="11048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 flipV="1">
              <a:off x="7693200" y="4847760"/>
              <a:ext cx="0" cy="2113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5502240" y="3660480"/>
              <a:ext cx="1187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Actionneu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Text Box 21"/>
            <p:cNvSpPr/>
            <p:nvPr/>
          </p:nvSpPr>
          <p:spPr>
            <a:xfrm>
              <a:off x="3438720" y="1612440"/>
              <a:ext cx="974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Times New Roman"/>
                </a:rPr>
                <a:t>Distribue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l ’é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Text Box 22"/>
            <p:cNvSpPr/>
            <p:nvPr/>
          </p:nvSpPr>
          <p:spPr>
            <a:xfrm>
              <a:off x="5615280" y="2922120"/>
              <a:ext cx="979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Times New Roman"/>
                </a:rPr>
                <a:t>Convertir</a:t>
              </a: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l ’é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Text Box 23"/>
            <p:cNvSpPr/>
            <p:nvPr/>
          </p:nvSpPr>
          <p:spPr>
            <a:xfrm>
              <a:off x="7466040" y="4107960"/>
              <a:ext cx="1244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Times New Roman"/>
                </a:rPr>
                <a:t>Transmettr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le mouvement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Text Box 24"/>
            <p:cNvSpPr/>
            <p:nvPr/>
          </p:nvSpPr>
          <p:spPr>
            <a:xfrm>
              <a:off x="4936680" y="1901880"/>
              <a:ext cx="11516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E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distribué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7023600" y="3005280"/>
              <a:ext cx="1153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E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mécanique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de transla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8647200" y="4454640"/>
              <a:ext cx="496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>
              <a:off x="2120760" y="0"/>
              <a:ext cx="0" cy="4730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1668600" y="458640"/>
              <a:ext cx="1033200" cy="7398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27" name="AutoShape 30"/>
            <p:cNvCxnSpPr/>
            <p:nvPr/>
          </p:nvCxnSpPr>
          <p:spPr>
            <a:xfrm>
              <a:off x="789120" y="836280"/>
              <a:ext cx="853200" cy="1080"/>
            </a:xfrm>
            <a:prstGeom prst="straightConnector1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</p:cxnSp>
        <p:cxnSp>
          <p:nvCxnSpPr>
            <p:cNvPr id="128" name="AutoShape 31"/>
            <p:cNvCxnSpPr>
              <a:stCxn id="126" idx="3"/>
              <a:endCxn id="103" idx="1"/>
            </p:cNvCxnSpPr>
            <p:nvPr/>
          </p:nvCxnSpPr>
          <p:spPr>
            <a:xfrm>
              <a:off x="2701800" y="828360"/>
              <a:ext cx="738720" cy="1103040"/>
            </a:xfrm>
            <a:prstGeom prst="bentConnector3">
              <a:avLst>
                <a:gd name="adj1" fmla="val 49975"/>
              </a:avLst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</p:cxnSp>
        <p:sp>
          <p:nvSpPr>
            <p:cNvPr id="129" name="AutoShape 32"/>
            <p:cNvSpPr/>
            <p:nvPr/>
          </p:nvSpPr>
          <p:spPr>
            <a:xfrm flipH="1">
              <a:off x="3036960" y="698400"/>
              <a:ext cx="293760" cy="328680"/>
            </a:xfrm>
            <a:prstGeom prst="lightningBol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AutoShape 33"/>
            <p:cNvSpPr/>
            <p:nvPr/>
          </p:nvSpPr>
          <p:spPr>
            <a:xfrm flipH="1">
              <a:off x="5084640" y="1685880"/>
              <a:ext cx="293760" cy="328680"/>
            </a:xfrm>
            <a:prstGeom prst="lightningBol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AutoShape 34"/>
            <p:cNvSpPr/>
            <p:nvPr/>
          </p:nvSpPr>
          <p:spPr>
            <a:xfrm flipH="1">
              <a:off x="7119360" y="2832120"/>
              <a:ext cx="293400" cy="328680"/>
            </a:xfrm>
            <a:prstGeom prst="lightningBol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35"/>
            <p:cNvSpPr/>
            <p:nvPr/>
          </p:nvSpPr>
          <p:spPr>
            <a:xfrm>
              <a:off x="4354560" y="1141560"/>
              <a:ext cx="0" cy="395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Text Box 36"/>
            <p:cNvSpPr/>
            <p:nvPr/>
          </p:nvSpPr>
          <p:spPr>
            <a:xfrm>
              <a:off x="538200" y="257040"/>
              <a:ext cx="1278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E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p = p atm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7097400" y="618480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*Ordres de commande</a:t>
              </a:r>
              <a:r>
                <a:rPr b="0" lang="fr-FR" sz="12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Text Box 38"/>
            <p:cNvSpPr/>
            <p:nvPr/>
          </p:nvSpPr>
          <p:spPr>
            <a:xfrm>
              <a:off x="4265640" y="965160"/>
              <a:ext cx="3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eaeaea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Text Box 39"/>
            <p:cNvSpPr/>
            <p:nvPr/>
          </p:nvSpPr>
          <p:spPr>
            <a:xfrm>
              <a:off x="6384960" y="2295360"/>
              <a:ext cx="34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eaeaea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Text Box 40"/>
            <p:cNvSpPr/>
            <p:nvPr/>
          </p:nvSpPr>
          <p:spPr>
            <a:xfrm>
              <a:off x="8020080" y="3489480"/>
              <a:ext cx="34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eaeaea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Text Box 41"/>
            <p:cNvSpPr/>
            <p:nvPr/>
          </p:nvSpPr>
          <p:spPr>
            <a:xfrm>
              <a:off x="1695600" y="2941560"/>
              <a:ext cx="148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Text Box 42"/>
            <p:cNvSpPr/>
            <p:nvPr/>
          </p:nvSpPr>
          <p:spPr>
            <a:xfrm>
              <a:off x="1743480" y="526680"/>
              <a:ext cx="953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eaeaea"/>
                  </a:solidFill>
                  <a:latin typeface="Times New Roman"/>
                </a:rPr>
                <a:t>Alimente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en énergi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Text Box 43"/>
            <p:cNvSpPr/>
            <p:nvPr/>
          </p:nvSpPr>
          <p:spPr>
            <a:xfrm>
              <a:off x="2100240" y="1220400"/>
              <a:ext cx="180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Line 44"/>
            <p:cNvSpPr/>
            <p:nvPr/>
          </p:nvSpPr>
          <p:spPr>
            <a:xfrm>
              <a:off x="1674720" y="1486080"/>
              <a:ext cx="11048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Line 45"/>
            <p:cNvSpPr/>
            <p:nvPr/>
          </p:nvSpPr>
          <p:spPr>
            <a:xfrm flipV="1">
              <a:off x="1674720" y="1274400"/>
              <a:ext cx="0" cy="2113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Text Box 46"/>
            <p:cNvSpPr/>
            <p:nvPr/>
          </p:nvSpPr>
          <p:spPr>
            <a:xfrm>
              <a:off x="1711080" y="1208160"/>
              <a:ext cx="12276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Chaîn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aeaea"/>
                  </a:solidFill>
                  <a:latin typeface="Times New Roman"/>
                </a:rPr>
                <a:t>d’alimenta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4" name="Picture 47" descr="C:\Isabelle\Scanner\distributeur3.BMP"/>
          <p:cNvPicPr/>
          <p:nvPr/>
        </p:nvPicPr>
        <p:blipFill>
          <a:blip r:embed="rId1"/>
          <a:stretch/>
        </p:blipFill>
        <p:spPr>
          <a:xfrm>
            <a:off x="3043080" y="2951280"/>
            <a:ext cx="1886040" cy="942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8" descr="C:\Isabelle\Scanner\distributeur.BMP"/>
          <p:cNvPicPr/>
          <p:nvPr/>
        </p:nvPicPr>
        <p:blipFill>
          <a:blip r:embed="rId2"/>
          <a:stretch/>
        </p:blipFill>
        <p:spPr>
          <a:xfrm>
            <a:off x="3087720" y="3821040"/>
            <a:ext cx="1792080" cy="106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9" descr="C:\Isabelle\Scanner\distributeur2.BMP"/>
          <p:cNvPicPr/>
          <p:nvPr/>
        </p:nvPicPr>
        <p:blipFill>
          <a:blip r:embed="rId3"/>
          <a:stretch/>
        </p:blipFill>
        <p:spPr>
          <a:xfrm>
            <a:off x="3206880" y="4888080"/>
            <a:ext cx="1542960" cy="96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2" descr="A:\vérin.BMP"/>
          <p:cNvPicPr/>
          <p:nvPr/>
        </p:nvPicPr>
        <p:blipFill>
          <a:blip r:embed="rId4"/>
          <a:stretch/>
        </p:blipFill>
        <p:spPr>
          <a:xfrm>
            <a:off x="5060880" y="4287960"/>
            <a:ext cx="1952640" cy="733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3" descr="C:\Isabelle\Scanner\vérin.BMP"/>
          <p:cNvPicPr/>
          <p:nvPr/>
        </p:nvPicPr>
        <p:blipFill>
          <a:blip r:embed="rId5"/>
          <a:stretch/>
        </p:blipFill>
        <p:spPr>
          <a:xfrm>
            <a:off x="4995720" y="5056200"/>
            <a:ext cx="199872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C:\Isabelle\Scanner\vérin1.BMP"/>
          <p:cNvPicPr/>
          <p:nvPr/>
        </p:nvPicPr>
        <p:blipFill>
          <a:blip r:embed="rId6"/>
          <a:stretch/>
        </p:blipFill>
        <p:spPr>
          <a:xfrm>
            <a:off x="5073480" y="5840280"/>
            <a:ext cx="1806840" cy="770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7"/>
          <p:cNvSpPr/>
          <p:nvPr/>
        </p:nvSpPr>
        <p:spPr>
          <a:xfrm>
            <a:off x="5048640" y="423720"/>
            <a:ext cx="3862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Chaîne d’énergi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pneumatiqu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2" descr="A:\MVC-460F.JPG"/>
          <p:cNvPicPr/>
          <p:nvPr/>
        </p:nvPicPr>
        <p:blipFill>
          <a:blip r:embed="rId7">
            <a:lum bright="18000"/>
          </a:blip>
          <a:srcRect l="13078" t="0" r="45761" b="32847"/>
          <a:stretch/>
        </p:blipFill>
        <p:spPr>
          <a:xfrm>
            <a:off x="1563840" y="1781280"/>
            <a:ext cx="1215720" cy="148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3" descr="A:\compresseur.bmp"/>
          <p:cNvPicPr/>
          <p:nvPr/>
        </p:nvPicPr>
        <p:blipFill>
          <a:blip r:embed="rId8"/>
          <a:stretch/>
        </p:blipFill>
        <p:spPr>
          <a:xfrm>
            <a:off x="1444680" y="3290760"/>
            <a:ext cx="1512720" cy="11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D:\isa\images\compresseur.BMP"/>
          <p:cNvPicPr/>
          <p:nvPr/>
        </p:nvPicPr>
        <p:blipFill>
          <a:blip r:embed="rId9"/>
          <a:stretch/>
        </p:blipFill>
        <p:spPr>
          <a:xfrm>
            <a:off x="1461960" y="4505400"/>
            <a:ext cx="1444680" cy="1212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6" descr="D:\isa\images\flux pneumatique.BMP"/>
          <p:cNvPicPr/>
          <p:nvPr/>
        </p:nvPicPr>
        <p:blipFill>
          <a:blip r:embed="rId10"/>
          <a:stretch/>
        </p:blipFill>
        <p:spPr>
          <a:xfrm>
            <a:off x="1584360" y="5749920"/>
            <a:ext cx="96516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1">
            <a:hlinkClick r:id="rId11" action="ppaction://hlinksldjump"/>
          </p:cNvPr>
          <p:cNvSpPr/>
          <p:nvPr/>
        </p:nvSpPr>
        <p:spPr>
          <a:xfrm>
            <a:off x="895320" y="6415200"/>
            <a:ext cx="423720" cy="442800"/>
          </a:xfrm>
          <a:custGeom>
            <a:avLst/>
            <a:gdLst>
              <a:gd name="textAreaLeft" fmla="*/ 27360 w 423720"/>
              <a:gd name="textAreaRight" fmla="*/ 396360 w 423720"/>
              <a:gd name="textAreaTop" fmla="*/ 27360 h 442800"/>
              <a:gd name="textAreaBottom" fmla="*/ 415440 h 442800"/>
            </a:gdLst>
            <a:ahLst/>
            <a:rect l="textAreaLeft" t="textAreaTop" r="textAreaRight" b="textAreaBottom"/>
            <a:pathLst>
              <a:path w="21600" h="22572">
                <a:moveTo>
                  <a:pt x="0" y="0"/>
                </a:moveTo>
                <a:lnTo>
                  <a:pt x="21600" y="0"/>
                </a:lnTo>
                <a:lnTo>
                  <a:pt x="21600" y="22572"/>
                </a:lnTo>
                <a:lnTo>
                  <a:pt x="0" y="22572"/>
                </a:lnTo>
                <a:close/>
              </a:path>
              <a:path fill="lightenLess" w="21600" h="22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72">
                <a:moveTo>
                  <a:pt x="21600" y="0"/>
                </a:moveTo>
                <a:lnTo>
                  <a:pt x="21600" y="22572"/>
                </a:lnTo>
                <a:lnTo>
                  <a:pt x="20200" y="21172"/>
                </a:lnTo>
                <a:lnTo>
                  <a:pt x="20200" y="1400"/>
                </a:lnTo>
                <a:close/>
              </a:path>
              <a:path fill="darkenLess" w="21600" h="22572">
                <a:moveTo>
                  <a:pt x="21600" y="22572"/>
                </a:moveTo>
                <a:lnTo>
                  <a:pt x="0" y="22572"/>
                </a:lnTo>
                <a:lnTo>
                  <a:pt x="1400" y="21172"/>
                </a:lnTo>
                <a:lnTo>
                  <a:pt x="20200" y="21172"/>
                </a:lnTo>
                <a:close/>
              </a:path>
              <a:path fill="lighten" w="21600" h="22572">
                <a:moveTo>
                  <a:pt x="0" y="22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72"/>
                </a:lnTo>
                <a:close/>
              </a:path>
              <a:path fill="darken" w="21600" h="22572">
                <a:moveTo>
                  <a:pt x="10800" y="4323"/>
                </a:moveTo>
                <a:lnTo>
                  <a:pt x="13376" y="6934"/>
                </a:lnTo>
                <a:lnTo>
                  <a:pt x="13376" y="5193"/>
                </a:lnTo>
                <a:lnTo>
                  <a:pt x="15152" y="5193"/>
                </a:lnTo>
                <a:lnTo>
                  <a:pt x="15152" y="8710"/>
                </a:lnTo>
                <a:lnTo>
                  <a:pt x="17763" y="11286"/>
                </a:lnTo>
                <a:lnTo>
                  <a:pt x="16109" y="11286"/>
                </a:lnTo>
                <a:lnTo>
                  <a:pt x="16109" y="18475"/>
                </a:lnTo>
                <a:lnTo>
                  <a:pt x="5491" y="18475"/>
                </a:lnTo>
                <a:lnTo>
                  <a:pt x="5491" y="11286"/>
                </a:lnTo>
                <a:lnTo>
                  <a:pt x="3837" y="11286"/>
                </a:lnTo>
                <a:close/>
              </a:path>
              <a:path fill="darkenLess" w="21600" h="22572">
                <a:moveTo>
                  <a:pt x="13376" y="6934"/>
                </a:moveTo>
                <a:lnTo>
                  <a:pt x="13376" y="5193"/>
                </a:lnTo>
                <a:lnTo>
                  <a:pt x="15152" y="5193"/>
                </a:lnTo>
                <a:lnTo>
                  <a:pt x="15152" y="8710"/>
                </a:lnTo>
                <a:close/>
              </a:path>
              <a:path fill="darkenLess" w="21600" h="22572">
                <a:moveTo>
                  <a:pt x="9877" y="14785"/>
                </a:moveTo>
                <a:lnTo>
                  <a:pt x="11723" y="14785"/>
                </a:lnTo>
                <a:lnTo>
                  <a:pt x="11723" y="18475"/>
                </a:lnTo>
                <a:lnTo>
                  <a:pt x="16109" y="18475"/>
                </a:lnTo>
                <a:lnTo>
                  <a:pt x="16109" y="11286"/>
                </a:lnTo>
                <a:lnTo>
                  <a:pt x="5491" y="11286"/>
                </a:lnTo>
                <a:lnTo>
                  <a:pt x="5491" y="18475"/>
                </a:lnTo>
                <a:lnTo>
                  <a:pt x="9877" y="18475"/>
                </a:lnTo>
                <a:close/>
              </a:path>
            </a:pathLst>
          </a:cu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Image 1" descr=""/>
          <p:cNvPicPr/>
          <p:nvPr/>
        </p:nvPicPr>
        <p:blipFill>
          <a:blip r:embed="rId12"/>
          <a:stretch/>
        </p:blipFill>
        <p:spPr>
          <a:xfrm>
            <a:off x="7120080" y="5021280"/>
            <a:ext cx="1384200" cy="1038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9"/>
          <p:cNvSpPr/>
          <p:nvPr/>
        </p:nvSpPr>
        <p:spPr>
          <a:xfrm>
            <a:off x="7615080" y="4800240"/>
            <a:ext cx="11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ffecteu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Image 2"/>
          <p:cNvSpPr/>
          <p:nvPr/>
        </p:nvSpPr>
        <p:spPr>
          <a:xfrm>
            <a:off x="3873600" y="2730600"/>
            <a:ext cx="1396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02-01-03- Chaine fonctionnelle 1 etape2.AVI" descr=""/>
          <p:cNvPicPr/>
          <p:nvPr/>
        </p:nvPicPr>
        <p:blipFill>
          <a:blip r:embed="rId13"/>
          <a:stretch/>
        </p:blipFill>
        <p:spPr>
          <a:xfrm>
            <a:off x="7250040" y="5273640"/>
            <a:ext cx="149868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5" descr=""/>
          <p:cNvPicPr/>
          <p:nvPr/>
        </p:nvPicPr>
        <p:blipFill>
          <a:blip r:embed="rId14"/>
          <a:stretch/>
        </p:blipFill>
        <p:spPr>
          <a:xfrm>
            <a:off x="7250040" y="5467320"/>
            <a:ext cx="1832040" cy="1282680"/>
          </a:xfrm>
          <a:prstGeom prst="rect">
            <a:avLst/>
          </a:prstGeom>
          <a:ln w="0">
            <a:noFill/>
          </a:ln>
        </p:spPr>
      </p:pic>
      <p:pic>
        <p:nvPicPr>
          <p:cNvPr id="161" name="Image 6" descr=""/>
          <p:cNvPicPr/>
          <p:nvPr/>
        </p:nvPicPr>
        <p:blipFill>
          <a:blip r:embed="rId15"/>
          <a:stretch/>
        </p:blipFill>
        <p:spPr>
          <a:xfrm>
            <a:off x="7521480" y="5540400"/>
            <a:ext cx="12067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1101600" y="360360"/>
            <a:ext cx="7574040" cy="6275520"/>
          </a:xfrm>
          <a:prstGeom prst="rect">
            <a:avLst/>
          </a:prstGeom>
          <a:noFill/>
          <a:ln w="12600">
            <a:solidFill>
              <a:srgbClr val="eaeae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170160" y="1536840"/>
            <a:ext cx="1106640" cy="78876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65720" y="2865600"/>
            <a:ext cx="1106640" cy="79056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272360" y="4059360"/>
            <a:ext cx="1104840" cy="788760"/>
          </a:xfrm>
          <a:prstGeom prst="rect">
            <a:avLst/>
          </a:prstGeom>
          <a:noFill/>
          <a:ln w="1260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6" name="AutoShape 7"/>
          <p:cNvCxnSpPr>
            <a:stCxn id="163" idx="3"/>
            <a:endCxn id="164" idx="1"/>
          </p:cNvCxnSpPr>
          <p:nvPr/>
        </p:nvCxnSpPr>
        <p:spPr>
          <a:xfrm>
            <a:off x="4276440" y="1931760"/>
            <a:ext cx="989280" cy="1329480"/>
          </a:xfrm>
          <a:prstGeom prst="bentConnector3">
            <a:avLst>
              <a:gd name="adj1" fmla="val 49908"/>
            </a:avLst>
          </a:prstGeom>
          <a:ln w="1260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67" name="AutoShape 8"/>
          <p:cNvCxnSpPr>
            <a:stCxn id="164" idx="3"/>
            <a:endCxn id="165" idx="1"/>
          </p:cNvCxnSpPr>
          <p:nvPr/>
        </p:nvCxnSpPr>
        <p:spPr>
          <a:xfrm>
            <a:off x="6372360" y="3260880"/>
            <a:ext cx="900720" cy="1194480"/>
          </a:xfrm>
          <a:prstGeom prst="bentConnector3">
            <a:avLst>
              <a:gd name="adj1" fmla="val 49900"/>
            </a:avLst>
          </a:prstGeom>
          <a:ln w="1260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68" name="Line 9"/>
          <p:cNvSpPr/>
          <p:nvPr/>
        </p:nvSpPr>
        <p:spPr>
          <a:xfrm>
            <a:off x="6229440" y="2470320"/>
            <a:ext cx="0" cy="3952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7840800" y="3664080"/>
            <a:ext cx="0" cy="3952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841480" y="734760"/>
            <a:ext cx="114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électr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165120" y="2342880"/>
            <a:ext cx="117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Préactionneu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électr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3233880" y="2608200"/>
            <a:ext cx="110484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3233880" y="2397240"/>
            <a:ext cx="0" cy="2109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5221440" y="3938760"/>
            <a:ext cx="110484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16"/>
          <p:cNvSpPr/>
          <p:nvPr/>
        </p:nvSpPr>
        <p:spPr>
          <a:xfrm flipV="1">
            <a:off x="5221440" y="3725640"/>
            <a:ext cx="0" cy="2127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7423200" y="5059440"/>
            <a:ext cx="110484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18"/>
          <p:cNvSpPr/>
          <p:nvPr/>
        </p:nvSpPr>
        <p:spPr>
          <a:xfrm flipV="1">
            <a:off x="7423200" y="4847760"/>
            <a:ext cx="0" cy="2113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232240" y="3660480"/>
            <a:ext cx="118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Moteu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électr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256200" y="1595160"/>
            <a:ext cx="974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aea"/>
                </a:solidFill>
                <a:latin typeface="Times New Roman"/>
              </a:rPr>
              <a:t>Distribue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l ’é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345280" y="2922120"/>
            <a:ext cx="979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aea"/>
                </a:solidFill>
                <a:latin typeface="Times New Roman"/>
              </a:rPr>
              <a:t>Convertir</a:t>
            </a: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l ’é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7196400" y="4107960"/>
            <a:ext cx="1244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aea"/>
                </a:solidFill>
                <a:latin typeface="Times New Roman"/>
              </a:rPr>
              <a:t>Transmettr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le mouvemen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4797360" y="1901880"/>
            <a:ext cx="889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électr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distribué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6806880" y="3005280"/>
            <a:ext cx="1045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mécanique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de rota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8377200" y="4454640"/>
            <a:ext cx="49680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1851120" y="0"/>
            <a:ext cx="0" cy="47304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1398600" y="458640"/>
            <a:ext cx="1033560" cy="7398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7" name="AutoShape 29"/>
          <p:cNvCxnSpPr/>
          <p:nvPr/>
        </p:nvCxnSpPr>
        <p:spPr>
          <a:xfrm>
            <a:off x="519120" y="836280"/>
            <a:ext cx="853200" cy="1080"/>
          </a:xfrm>
          <a:prstGeom prst="straightConnector1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88" name="AutoShape 30"/>
          <p:cNvCxnSpPr>
            <a:stCxn id="186" idx="3"/>
            <a:endCxn id="163" idx="1"/>
          </p:cNvCxnSpPr>
          <p:nvPr/>
        </p:nvCxnSpPr>
        <p:spPr>
          <a:xfrm>
            <a:off x="2432160" y="828360"/>
            <a:ext cx="738720" cy="1104120"/>
          </a:xfrm>
          <a:prstGeom prst="bentConnector3">
            <a:avLst>
              <a:gd name="adj1" fmla="val 49878"/>
            </a:avLst>
          </a:prstGeom>
          <a:ln w="1260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89" name="AutoShape 31"/>
          <p:cNvSpPr/>
          <p:nvPr/>
        </p:nvSpPr>
        <p:spPr>
          <a:xfrm flipH="1">
            <a:off x="2766960" y="698400"/>
            <a:ext cx="293760" cy="328680"/>
          </a:xfrm>
          <a:prstGeom prst="lightningBol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AutoShape 32"/>
          <p:cNvSpPr/>
          <p:nvPr/>
        </p:nvSpPr>
        <p:spPr>
          <a:xfrm flipH="1">
            <a:off x="4814280" y="1685880"/>
            <a:ext cx="293400" cy="328680"/>
          </a:xfrm>
          <a:prstGeom prst="lightningBol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AutoShape 33"/>
          <p:cNvSpPr/>
          <p:nvPr/>
        </p:nvSpPr>
        <p:spPr>
          <a:xfrm flipH="1">
            <a:off x="6850080" y="2832120"/>
            <a:ext cx="293760" cy="328680"/>
          </a:xfrm>
          <a:prstGeom prst="lightningBol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4084560" y="1141560"/>
            <a:ext cx="0" cy="39528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2609640" y="62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*Ordres de commande</a:t>
            </a:r>
            <a:r>
              <a:rPr b="0" lang="fr-FR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3995640" y="96516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6114960" y="229536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7750080" y="348948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425600" y="2941560"/>
            <a:ext cx="14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0"/>
          <p:cNvSpPr/>
          <p:nvPr/>
        </p:nvSpPr>
        <p:spPr>
          <a:xfrm>
            <a:off x="1473840" y="526680"/>
            <a:ext cx="9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aeaea"/>
                </a:solidFill>
                <a:latin typeface="Times New Roman"/>
              </a:rPr>
              <a:t>Alimente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n é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1830240" y="1220400"/>
            <a:ext cx="18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1405080" y="1486080"/>
            <a:ext cx="110484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43"/>
          <p:cNvSpPr/>
          <p:nvPr/>
        </p:nvSpPr>
        <p:spPr>
          <a:xfrm flipV="1">
            <a:off x="1405080" y="1274400"/>
            <a:ext cx="0" cy="2113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1441440" y="1208160"/>
            <a:ext cx="1227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Chaîn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d’alimenta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5"/>
          <p:cNvSpPr/>
          <p:nvPr/>
        </p:nvSpPr>
        <p:spPr>
          <a:xfrm>
            <a:off x="4854960" y="423720"/>
            <a:ext cx="3862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Chaîne d’énergi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00"/>
                </a:solidFill>
                <a:uFillTx/>
                <a:latin typeface="Arial"/>
              </a:rPr>
              <a:t>électriqu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48" descr="C:\Isabelle\Scanner\relais.BMP"/>
          <p:cNvPicPr/>
          <p:nvPr/>
        </p:nvPicPr>
        <p:blipFill>
          <a:blip r:embed="rId1"/>
          <a:stretch/>
        </p:blipFill>
        <p:spPr>
          <a:xfrm>
            <a:off x="3013200" y="2949480"/>
            <a:ext cx="1550880" cy="135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9" descr="C:\Isabelle\Scanner\moteur.BMP"/>
          <p:cNvPicPr/>
          <p:nvPr/>
        </p:nvPicPr>
        <p:blipFill>
          <a:blip r:embed="rId2"/>
          <a:stretch/>
        </p:blipFill>
        <p:spPr>
          <a:xfrm>
            <a:off x="5108400" y="4241880"/>
            <a:ext cx="1420920" cy="1292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0" descr="C:\Isabelle\Scanner\moteur1.BMP"/>
          <p:cNvPicPr/>
          <p:nvPr/>
        </p:nvPicPr>
        <p:blipFill>
          <a:blip r:embed="rId3"/>
          <a:stretch/>
        </p:blipFill>
        <p:spPr>
          <a:xfrm>
            <a:off x="5278320" y="5589720"/>
            <a:ext cx="105912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1" descr="C:\Isabelle\Scanner\relais1.BMP"/>
          <p:cNvPicPr/>
          <p:nvPr/>
        </p:nvPicPr>
        <p:blipFill>
          <a:blip r:embed="rId4"/>
          <a:stretch/>
        </p:blipFill>
        <p:spPr>
          <a:xfrm>
            <a:off x="2752560" y="4348080"/>
            <a:ext cx="2121120" cy="93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6" descr="D:\Billy\images\engrenage.bmp"/>
          <p:cNvPicPr/>
          <p:nvPr/>
        </p:nvPicPr>
        <p:blipFill>
          <a:blip r:embed="rId5"/>
          <a:stretch/>
        </p:blipFill>
        <p:spPr>
          <a:xfrm>
            <a:off x="6981840" y="5213520"/>
            <a:ext cx="1442880" cy="1130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8" descr="D:\Billy\images\alternateur1.BMP"/>
          <p:cNvPicPr/>
          <p:nvPr/>
        </p:nvPicPr>
        <p:blipFill>
          <a:blip r:embed="rId6"/>
          <a:srcRect l="6505" t="8123" r="5087" b="0"/>
          <a:stretch/>
        </p:blipFill>
        <p:spPr>
          <a:xfrm>
            <a:off x="1163520" y="1989000"/>
            <a:ext cx="1687680" cy="171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9" descr="D:\Billy\images\éoliennes.bmp"/>
          <p:cNvPicPr/>
          <p:nvPr/>
        </p:nvPicPr>
        <p:blipFill>
          <a:blip r:embed="rId7"/>
          <a:stretch/>
        </p:blipFill>
        <p:spPr>
          <a:xfrm>
            <a:off x="1293840" y="3747960"/>
            <a:ext cx="1228680" cy="23623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60">
            <a:hlinkClick r:id="rId8" action="ppaction://hlinksldjump"/>
          </p:cNvPr>
          <p:cNvSpPr/>
          <p:nvPr/>
        </p:nvSpPr>
        <p:spPr>
          <a:xfrm>
            <a:off x="895320" y="6415200"/>
            <a:ext cx="423720" cy="442800"/>
          </a:xfrm>
          <a:custGeom>
            <a:avLst/>
            <a:gdLst>
              <a:gd name="textAreaLeft" fmla="*/ 27360 w 423720"/>
              <a:gd name="textAreaRight" fmla="*/ 396360 w 423720"/>
              <a:gd name="textAreaTop" fmla="*/ 27360 h 442800"/>
              <a:gd name="textAreaBottom" fmla="*/ 415440 h 442800"/>
            </a:gdLst>
            <a:ahLst/>
            <a:rect l="textAreaLeft" t="textAreaTop" r="textAreaRight" b="textAreaBottom"/>
            <a:pathLst>
              <a:path w="21600" h="22572">
                <a:moveTo>
                  <a:pt x="0" y="0"/>
                </a:moveTo>
                <a:lnTo>
                  <a:pt x="21600" y="0"/>
                </a:lnTo>
                <a:lnTo>
                  <a:pt x="21600" y="22572"/>
                </a:lnTo>
                <a:lnTo>
                  <a:pt x="0" y="22572"/>
                </a:lnTo>
                <a:close/>
              </a:path>
              <a:path fill="lightenLess" w="21600" h="22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72">
                <a:moveTo>
                  <a:pt x="21600" y="0"/>
                </a:moveTo>
                <a:lnTo>
                  <a:pt x="21600" y="22572"/>
                </a:lnTo>
                <a:lnTo>
                  <a:pt x="20200" y="21172"/>
                </a:lnTo>
                <a:lnTo>
                  <a:pt x="20200" y="1400"/>
                </a:lnTo>
                <a:close/>
              </a:path>
              <a:path fill="darkenLess" w="21600" h="22572">
                <a:moveTo>
                  <a:pt x="21600" y="22572"/>
                </a:moveTo>
                <a:lnTo>
                  <a:pt x="0" y="22572"/>
                </a:lnTo>
                <a:lnTo>
                  <a:pt x="1400" y="21172"/>
                </a:lnTo>
                <a:lnTo>
                  <a:pt x="20200" y="21172"/>
                </a:lnTo>
                <a:close/>
              </a:path>
              <a:path fill="lighten" w="21600" h="22572">
                <a:moveTo>
                  <a:pt x="0" y="22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72"/>
                </a:lnTo>
                <a:close/>
              </a:path>
              <a:path fill="darken" w="21600" h="22572">
                <a:moveTo>
                  <a:pt x="10800" y="4323"/>
                </a:moveTo>
                <a:lnTo>
                  <a:pt x="13376" y="6934"/>
                </a:lnTo>
                <a:lnTo>
                  <a:pt x="13376" y="5193"/>
                </a:lnTo>
                <a:lnTo>
                  <a:pt x="15152" y="5193"/>
                </a:lnTo>
                <a:lnTo>
                  <a:pt x="15152" y="8710"/>
                </a:lnTo>
                <a:lnTo>
                  <a:pt x="17763" y="11286"/>
                </a:lnTo>
                <a:lnTo>
                  <a:pt x="16109" y="11286"/>
                </a:lnTo>
                <a:lnTo>
                  <a:pt x="16109" y="18475"/>
                </a:lnTo>
                <a:lnTo>
                  <a:pt x="5491" y="18475"/>
                </a:lnTo>
                <a:lnTo>
                  <a:pt x="5491" y="11286"/>
                </a:lnTo>
                <a:lnTo>
                  <a:pt x="3837" y="11286"/>
                </a:lnTo>
                <a:close/>
              </a:path>
              <a:path fill="darkenLess" w="21600" h="22572">
                <a:moveTo>
                  <a:pt x="13376" y="6934"/>
                </a:moveTo>
                <a:lnTo>
                  <a:pt x="13376" y="5193"/>
                </a:lnTo>
                <a:lnTo>
                  <a:pt x="15152" y="5193"/>
                </a:lnTo>
                <a:lnTo>
                  <a:pt x="15152" y="8710"/>
                </a:lnTo>
                <a:close/>
              </a:path>
              <a:path fill="darkenLess" w="21600" h="22572">
                <a:moveTo>
                  <a:pt x="9877" y="14785"/>
                </a:moveTo>
                <a:lnTo>
                  <a:pt x="11723" y="14785"/>
                </a:lnTo>
                <a:lnTo>
                  <a:pt x="11723" y="18475"/>
                </a:lnTo>
                <a:lnTo>
                  <a:pt x="16109" y="18475"/>
                </a:lnTo>
                <a:lnTo>
                  <a:pt x="16109" y="11286"/>
                </a:lnTo>
                <a:lnTo>
                  <a:pt x="5491" y="11286"/>
                </a:lnTo>
                <a:lnTo>
                  <a:pt x="5491" y="18475"/>
                </a:lnTo>
                <a:lnTo>
                  <a:pt x="9877" y="18475"/>
                </a:lnTo>
                <a:close/>
              </a:path>
            </a:pathLst>
          </a:cu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61"/>
          <p:cNvSpPr/>
          <p:nvPr/>
        </p:nvSpPr>
        <p:spPr>
          <a:xfrm>
            <a:off x="407880" y="487080"/>
            <a:ext cx="114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Energi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eaeaea"/>
                </a:solidFill>
                <a:latin typeface="Times New Roman"/>
              </a:rPr>
              <a:t>primair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Image 1" descr=""/>
          <p:cNvPicPr/>
          <p:nvPr/>
        </p:nvPicPr>
        <p:blipFill>
          <a:blip r:embed="rId9"/>
          <a:stretch/>
        </p:blipFill>
        <p:spPr>
          <a:xfrm>
            <a:off x="6910560" y="5316480"/>
            <a:ext cx="1527120" cy="9241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2" descr=""/>
          <p:cNvPicPr/>
          <p:nvPr/>
        </p:nvPicPr>
        <p:blipFill>
          <a:blip r:embed="rId10"/>
          <a:stretch/>
        </p:blipFill>
        <p:spPr>
          <a:xfrm>
            <a:off x="7143840" y="5249880"/>
            <a:ext cx="1057320" cy="1104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3" descr=""/>
          <p:cNvPicPr/>
          <p:nvPr/>
        </p:nvPicPr>
        <p:blipFill>
          <a:blip r:embed="rId11"/>
          <a:stretch/>
        </p:blipFill>
        <p:spPr>
          <a:xfrm>
            <a:off x="7053120" y="526104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0:44:59Z</dcterms:created>
  <dc:creator>Isabelle Gorria</dc:creator>
  <dc:description/>
  <dc:language>en-US</dc:language>
  <cp:lastModifiedBy>papa</cp:lastModifiedBy>
  <dcterms:modified xsi:type="dcterms:W3CDTF">2013-10-23T10:01:37Z</dcterms:modified>
  <cp:revision>93</cp:revision>
  <dc:subject/>
  <dc:title>Aucun titre de diapositive</dc:title>
</cp:coreProperties>
</file>